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387B-4AAD-4869-A4B3-6D67BC50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EEFE-D6CF-4A54-AAA1-A37B3C24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58E581-6EC6-4071-90AB-53F2104B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27C65-4C80-4457-9C43-104428A9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D8B1E-D760-4A5D-BB98-6C4307B3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5E0A1-C93F-4403-B3A2-CDE01CC3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3F650-A99A-4CD3-99DD-4FE7C708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983B2-B6D2-493A-B82A-FD9D5DD1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50900-4C64-4C11-AC2A-DEF4313B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FEDCE-CCFD-4A83-859A-CEB9BCF72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74197-87F3-4F3A-A43F-59C70A2D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6A777-17B3-4B24-9A29-DAE63EEA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5849-F30D-4CC4-8443-806EE26D5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2B757A-3079-4C59-8FBE-C15D785A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1959A-82DD-4143-B143-4DD0AA3C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2331F-149C-42D7-BB3C-88202184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6EA01-68CB-4B96-BDF5-33D2C2DE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E95BD-39E6-4315-9475-07D76132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E3AA1-74D6-479E-8716-3CB6D618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FA9BE-BF2F-4017-9E9F-051838B6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CDE49-1AE4-4812-AEFA-DD4C33C4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16C9A-9E20-4599-8A36-A647208D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2E3C7-C958-4AE8-803C-0758F064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2D9F-3E73-46A7-88E4-842E67809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A66E43-60E2-47DA-9CFF-240B24F19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31C14-1DCA-41E1-934E-51C5E844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99320-FDAE-4815-878B-13759C0C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E40E1-7AA5-4CB2-81A9-88DA00EF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B15F0-50D0-4D0F-9B91-C8C3E227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28E68-26AE-4CC2-9C95-45214D4D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640F2-8245-41F8-BD9F-E3B785CD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76843-E848-4954-91ED-DB4BCE05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89225-3311-4452-B1E3-EB888A92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7F8A0-0CDD-4788-AD81-38BAF20E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18DB-78B3-4129-96B6-C1037292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97D74-0B75-4832-BD1A-2784095A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118C0-33F3-41A4-9652-68583898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04615-9055-435D-8C32-A6F94692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8A700-E2EC-4906-BC19-829318E2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B66BF-C23F-41B5-9B0C-22F97525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DC78E5-14F2-4536-825C-8697E66E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31AF4-0BCC-4AF7-8BAC-9CEF3A67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56682-ADA3-4F07-9D6E-9DCFF17F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CF793-001C-4792-969F-58AED8DC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655F9D-975E-4296-91B1-D50834CE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5BEC-3A2F-403C-A6D9-AA8416A3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D867F9-A350-4AD0-B87D-C136A948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5BFEC-604A-4560-8822-DF1E21B9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32DEC1-64E2-4DCD-9534-3A824058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DDB0E-7EBF-4F3E-A809-FDC3756D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E0291-6341-4444-97D2-A85B71712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4F8F-E519-4859-AEC7-1A072DA4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0959-18B7-4BC2-AC48-CC5241A0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F3A9-B18F-4C5F-BE67-B1640E09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CAE4-A42D-481F-AFBF-7A666556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1084-7655-4922-A69C-819F5A43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67F9-F426-4EF5-AABC-EB72A2A8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5D09-2075-4876-9BB6-A4EABEEE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5DE2-04A7-4241-A50A-317FB541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7475-7767-4244-9B21-193E5D3C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E7B5-DF5B-494A-ABDF-196E726E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4D1F-7C00-478B-886C-0576AECEB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F22C9-40A4-4476-BB7E-F777A423A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8A928-288C-400F-9B2C-B553E490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9A16D-E1E1-4558-BBCA-FBA2C79D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336BE-6605-49A7-9CF6-4478396D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48FA1-2357-4EFF-949D-E83B87E5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B502-1326-474D-8663-C29BF412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F36F3-F3E8-4222-8C17-0159AF6F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B50DA-BE94-4B0B-B6FF-0C4B5290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3314A-08BB-4BFB-AB98-40D0DA42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ACF6C-88E8-444D-8D6E-6881D336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149CA-DA0E-4E84-890E-65D57223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0F44B-0422-4BDE-988E-0EC7CA5C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D65CB-7228-4D75-978C-01DB818E5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A628E-00AE-429A-A3B5-B75056F0F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B96C8-6770-4C04-B5FB-8E0903C1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C475F-0FCC-4347-8607-BF8D0B9F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A51F-60B8-4D38-89B6-E25593C5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EC0DF-8236-4D1A-8DED-23B0725B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6E0E3-82B6-4C17-8A8E-1650DEA9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E72EF-883B-4586-B51B-4F214F6C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C1BB0-E33F-4D57-BDA9-389C8A97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6EF0D-438B-4E83-91D3-E4794D06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50753-7734-49C9-88F5-271819EC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00BF3-03EE-497B-AD2A-F69D9903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8850E-BB61-4B3A-82D0-65FFE470F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5F8E7-9C2B-4BB5-B460-A5EC27C66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37728-9BEE-4E2C-9125-D94101629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0AC7-EA5F-4758-AE20-4DECF9D1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E0321-CED4-4660-85C1-0E7A268D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08D7D-9F30-46B6-9E03-3CFCD77B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A926B-A50B-468D-9D7C-28750F58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2F14D-53B9-49B5-A925-B36DA9F2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B86F1-809E-4047-BB31-C1B1605B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061A5-8D18-4C6A-82EE-B792E936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4085D-ABFC-47C9-81BB-6A25991D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D3AFD-E15C-41B9-BED1-3D3E8FBF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8CF5B-F043-485C-B9A9-EDEF03BF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D1CC7-770F-468B-8F3F-56FFBD59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BF26-7FB0-458E-8D57-773EF918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394B5-F758-42A8-867C-C00ED7CD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355C8-D288-4A32-8ECB-6B5B3368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8A3DB-62E0-44A3-B4C2-539AAA81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6C786-EBD6-4BC5-ADB3-9C3941F1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48B4D-45AC-4682-B55A-B4FAA0C8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F731D-A80E-483E-9252-72FAEA41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0AD9B-8F92-4D6A-AC43-F483F2E0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EC7C0-1AF9-4F0A-B889-AE7BB35D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E7A35-D1C2-4DFD-853B-4FB803C7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44DA1-A307-4C56-BFE0-9DF05067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48A7-AAC0-4D9A-8B4E-73D8B997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5CF92-8011-44C1-9A20-2C92ACEC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60DB0-516A-4190-ABD8-273C6F017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D3DB8-4015-4809-AD3B-6DD12552D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A71CF-AB23-4B9D-853C-8373EB817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70AF0-74AF-4692-8B28-F479BD99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48246-CB1B-4DA3-82D1-D25D30C6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5011C-C73F-4446-83CC-78A2A2A2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68C12-F762-4573-BE0C-E9D51356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D649C-56A1-49CD-83DA-85779A28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D4A02-449F-4C02-AA80-6CCB2AE5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C56B-0059-488F-AEE2-0C481727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0AB25-F704-4A35-B5B4-5082ABD5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8C95E-41A3-4779-8E31-429FF4B5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38BD1-E208-4BD5-9AD4-F11C86C0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0283A-9E5E-4821-B8AE-CCCA77DD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3BED6-C836-4D20-95D8-62F43C58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BD899-3C7C-44AC-BBD3-CFA9CAFB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55AAD-EF7D-4976-92F2-8D0E767E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85B2A-F7DD-4A12-B047-99D10210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74A2A-1F84-4C9B-8C69-7C6D88CD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F743E-9DAB-4B3E-AE9F-8F5C62BD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EED6-CE32-40FC-83FB-6D0559A6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AC566-9065-453B-8464-0286A8B1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8B20E-712D-4DDA-898B-7EE3D5AA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EF945-1206-44FE-A176-D4F2B464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D7CA3-DEEC-4CEC-8FA7-1723CC91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60932-648D-472F-82D9-4362E39B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F1FE6-0F66-4668-8869-2325BAD1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3FB05-5486-4359-870D-D23D6A1F1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B98A4-4B0D-40F3-9439-C65DC184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B7FE1-D787-45DD-B6FC-B72E2DBC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3A61C-34A1-45F9-AA39-75F0BD77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4D60-1F10-43BA-B7A6-5367740D9B4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8B31-81B2-4A12-9BC6-DF59ED59E67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B6C8-A68B-466D-BB38-98695E32BD8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12F6-CAB3-4409-A3EC-0F1B44F4E42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EEDF-F05D-4F54-A992-ECC25892CDC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30CA-AC9A-449E-902A-928FA751145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4408-35D3-4EEA-98B5-3F1310BC0A5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600F-B12D-446F-B231-555157B9EFE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E114-5731-4C91-A513-393F13324DD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A777-8EBE-4C6A-89A6-95D4013CBED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CE24-6FA6-4346-A2C8-13E6A2AF890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59E1-3496-484E-BF3A-2EF6EE6EDDD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55 Ži vo mne, drahý Kris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 vo mne, drahý Krist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 mojom srdci svie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Duchom svojím stál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a cestou spásy ve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 rady tvojho Slo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d denne prijíma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cítim, že si pri m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nemusím byť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ať v srdci pravú lásk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žiadnu zlobu v ň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 teba nedokáž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na to slabý s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preto spolieham s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tvoju pomoc le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rád ma vypočuje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to pevne veriť sm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rám vybuduj si vo m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celý som vždy tv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iba ty si,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n pravý blaha zdr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lom, prosím, moju pých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ňa ozdob pokor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 skúškach, v každom kríž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ď mojou opor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yť v tvojej cirkvi úd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pre mňa veľká č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nej konať tvoje diel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 tebe šíriť zv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blížnym o tom hlás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spása v tebe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máš rád všetkých ľud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každý o tom vi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4-11T16:47:43Z</dcterms:modified>
  <cp:revision>21</cp:revision>
  <dc:subject/>
  <dc:title>Je veľký náš Pán, on slávy je Kráľ Nech do všetkých strán  spev vrúcnych znie chvál.</dc:title>
</cp:coreProperties>
</file>